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7.jpeg" ContentType="image/jpeg"/>
  <Override PartName="/ppt/media/voltage.wav" ContentType="audio/x-wav"/>
  <Override PartName="/ppt/media/image18.png" ContentType="image/png"/>
  <Override PartName="/ppt/media/image20.png" ContentType="image/png"/>
  <Override PartName="/ppt/media/camera.wav" ContentType="audio/x-wav"/>
  <Override PartName="/ppt/media/image17.gif" ContentType="image/gif"/>
  <Override PartName="/ppt/media/image8.jpeg" ContentType="image/jpeg"/>
  <Override PartName="/ppt/media/image5.jpeg" ContentType="image/jpeg"/>
  <Override PartName="/ppt/media/ricochet.wav" ContentType="audio/x-wav"/>
  <Override PartName="/ppt/media/chimes.wav" ContentType="audio/x-wav"/>
  <Override PartName="/ppt/media/image16.png" ContentType="image/png"/>
  <Override PartName="/ppt/media/clap.wav" ContentType="audio/x-wav"/>
  <Override PartName="/ppt/media/image4.jpeg" ContentType="image/jpeg"/>
  <Override PartName="/ppt/media/image2.png" ContentType="image/png"/>
  <Override PartName="/ppt/media/image10.wmf" ContentType="image/x-wmf"/>
  <Override PartName="/ppt/media/image15.png" ContentType="image/png"/>
  <Override PartName="/ppt/media/image14.jpeg" ContentType="image/jpe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.jpeg" ContentType="image/jpeg"/>
  <Override PartName="/ppt/media/projctor.wav" ContentType="audio/x-wav"/>
  <Override PartName="/ppt/media/breeze.wav" ContentType="audio/x-wav"/>
  <Override PartName="/ppt/media/glass.wav" ContentType="audio/x-wav"/>
  <Override PartName="/ppt/media/image6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EB8-3FA9-4802-994D-BBE2A1E5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DE1-073C-43F1-8933-8B48AF54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3A2-1667-44EA-9250-913047B0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77E-9E39-4178-B4E7-C38A2164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89C8-A768-4A9C-A9BD-BEA255D9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1FFC-82CA-4910-B55B-019183EB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9A38-76F2-44E8-83E7-16CC2A52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6DB2-6625-4407-8FA5-1D63A4E1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D3D0-CBBF-4F7D-96E7-C4C720F3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EA35-788F-4770-A286-953C4915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C646-F5BA-441F-BF5E-7D7BAA28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740-384F-404D-AF16-C020EAA5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BC58-F4FF-4FA0-BB1E-E37D6B7A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666C-6317-477B-AC28-7BBF3205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46B8-0344-4066-B215-D29EEBA3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AADA-7706-460D-A2D0-A641D112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8289-0748-411C-827C-AB0B4471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60254-1E2D-4143-8A15-0B628E4A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F062-B851-4750-BE38-19255C22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A453B-5C52-4C3A-BC80-BC66F838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D90E-900B-4204-9D9E-C6593951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2C312-505A-4C47-A3C2-DB6B467C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24B-9595-4D8C-B773-0EF6A5BE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7CE1-2FDE-4DD8-9ACE-4537F69C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8638-580A-4646-89D2-640CAE55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F786B-B5FF-4E91-8EFA-AA314AA4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CA2F7-7B23-4A4C-A130-661AF0F1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1459D-2139-4EEA-8ABE-9AA93137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40691-BEDB-49CC-A4A6-6B7D9CF8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73231-5153-44FE-9D1B-166ABDE7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67FAB-7E03-4921-B125-59F3E120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C2820-4455-4E7B-8B06-1E3A886F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5F3C4-A26F-49BA-9291-117B5CDD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F0F-B610-470D-8AAF-E7F17794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4E9E4-0754-4141-9E0E-DFF7915A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3176E-0145-435E-BC88-D2721437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56D54-81DE-4BF5-9BD4-564D4E85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FE6AB-920E-4B34-901F-7467A387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B1CAF-DCC0-45CE-BC7D-CCE6BECC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F043E-C4C0-4DC6-ACC0-98435581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8E4C0-3CDD-46DA-B97E-299A1D63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ABD8E-BEF7-497E-A93A-87EA24F2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943F7-BFE5-4421-9818-EAB02A03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535-4670-47C8-81CE-78D7B517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C3E-3340-4AC6-A511-0C7D28E1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358-90A4-4EB9-B121-AFC4DAB4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BEA-78AB-4C8C-99CC-1DC9BB88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727-FF90-48DC-AFD8-C1854DFE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7881-37D1-495F-B105-D415B13F5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5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6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6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6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7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7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7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8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8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8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9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9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9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9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0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0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0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11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1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1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12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12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12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13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3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3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14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14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4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5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5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5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6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Arc 128"/>
              <p:cNvSpPr/>
              <p:nvPr/>
            </p:nvSpPr>
            <p:spPr>
              <a:xfrm>
                <a:off x="7722360" y="657000"/>
                <a:ext cx="388800" cy="11804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EB2E-646D-46AA-8ED2-272689A96F23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27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1C57-2538-494B-A99C-E67B80BCA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275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76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279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280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281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284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285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288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291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294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297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300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303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306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309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312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315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318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321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324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327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330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333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336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339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342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345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7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9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350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353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356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359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362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365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368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371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374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377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380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2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383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384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393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Arc 125"/>
              <p:cNvSpPr/>
              <p:nvPr/>
            </p:nvSpPr>
            <p:spPr>
              <a:xfrm>
                <a:off x="5588640" y="215892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Arc 126"/>
              <p:cNvSpPr/>
              <p:nvPr/>
            </p:nvSpPr>
            <p:spPr>
              <a:xfrm>
                <a:off x="5711760" y="214524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5C5C-C65B-40F9-9E0F-D34E860221B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audio" Target="../media/chimes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audio" Target="../media/ricochet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audio" Target="../media/chimes.wav"/><Relationship Id="rId6" Type="http://schemas.openxmlformats.org/officeDocument/2006/relationships/audio" Target="../media/glass.wav"/><Relationship Id="rId7" Type="http://schemas.openxmlformats.org/officeDocument/2006/relationships/audio" Target="../media/ricochet.wav"/><Relationship Id="rId8" Type="http://schemas.openxmlformats.org/officeDocument/2006/relationships/audio" Target="../media/breeze.wav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WordArt 26"/>
          <p:cNvSpPr txBox="1"/>
          <p:nvPr/>
        </p:nvSpPr>
        <p:spPr>
          <a:xfrm>
            <a:off x="1428840" y="1143000"/>
            <a:ext cx="7500960" cy="26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CURSIUN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 LUMEA ATOMULUI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0" name="WordArt 28"/>
          <p:cNvSpPr txBox="1"/>
          <p:nvPr/>
        </p:nvSpPr>
        <p:spPr>
          <a:xfrm>
            <a:off x="785880" y="4786200"/>
            <a:ext cx="4857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of. MARTINI ERIK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1" name="Picture 29" descr="atom"/>
          <p:cNvPicPr/>
          <p:nvPr/>
        </p:nvPicPr>
        <p:blipFill>
          <a:blip r:embed="rId1"/>
          <a:stretch/>
        </p:blipFill>
        <p:spPr>
          <a:xfrm>
            <a:off x="6804000" y="4292640"/>
            <a:ext cx="2133720" cy="19177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838080" y="1052640"/>
          <a:ext cx="8007480" cy="5187960"/>
        </p:xfrm>
        <a:graphic>
          <a:graphicData uri="http://schemas.openxmlformats.org/drawingml/2006/table">
            <a:tbl>
              <a:tblPr/>
              <a:tblGrid>
                <a:gridCol w="1717920"/>
                <a:gridCol w="3620880"/>
                <a:gridCol w="2668680"/>
              </a:tblGrid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on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ron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67x10</a:t>
                      </a:r>
                      <a:r>
                        <a:rPr b="0" lang="ro-RO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4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u.a.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67x10</a:t>
                      </a:r>
                      <a:r>
                        <a:rPr b="0" lang="ro-RO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4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u.a.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rcina electric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1(pozitiv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ă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(neutră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at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+1 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ăru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z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ă de la 1 la 10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tru acelasi tip de atomi este o constanta numita numar atomic Z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nr. protoni=sarcina nucleara=numar de or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era de la o specie la alta, cat si la atomii aceleiasi specii chimic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arul neutronilor se noteaza cu 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WordArt 55"/>
          <p:cNvSpPr txBox="1"/>
          <p:nvPr/>
        </p:nvSpPr>
        <p:spPr>
          <a:xfrm>
            <a:off x="1547640" y="333360"/>
            <a:ext cx="515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articularitatile nucleonil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152280" y="112680"/>
            <a:ext cx="8839440" cy="674532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228600" y="2038320"/>
            <a:ext cx="8610480" cy="1143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Masa electronului este mai mică de aproximativ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2000 de ori decât a protonului - deci neglijabil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304920" y="5105520"/>
            <a:ext cx="8534160" cy="1600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sa protonului este aproximativ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gal</a:t>
            </a:r>
            <a:r>
              <a:rPr b="0" lang="ro-RO" sz="4800" spc="-1" strike="noStrike">
                <a:solidFill>
                  <a:srgbClr val="ffffff"/>
                </a:solidFill>
                <a:latin typeface="Times New Roman"/>
              </a:rPr>
              <a:t>ă cu masa neutronulu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228600" y="3276720"/>
            <a:ext cx="86868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33ff"/>
                </a:solidFill>
                <a:latin typeface="Times New Roman"/>
              </a:rPr>
              <a:t>Masa atomului se găseşte concentrată în nucleu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ecare atom este car</a:t>
            </a:r>
            <a:r>
              <a:rPr b="0" lang="ro-RO" sz="32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teriza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de două numere: Z şi A</a:t>
            </a:r>
            <a:br>
              <a:rPr sz="3200"/>
            </a:b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ma numarului de protoni, Z si a num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lui de neutroni, N din nucleu se numest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um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 de mas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si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 noteaz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A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= Z+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Cunoscând Z si A se deduce că in nucleul atomului vor fi Z protoni si A-Z neutro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exemplu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=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=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=Z+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ul de azot are 7protoni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-7=7 neutroni, 7 electro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14"/>
              <p:cNvSpPr txBox="1"/>
              <p:nvPr/>
            </p:nvSpPr>
            <p:spPr>
              <a:xfrm>
                <a:off x="5052960" y="1996920"/>
                <a:ext cx="3781440" cy="386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 spd="slow" advTm="30000">
    <p:blinds dir="horz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9d9ff"/>
                </a:solidFill>
                <a:latin typeface="Arial Black"/>
              </a:rPr>
              <a:t>Exista si atomi ai aceluiasi element care au un numar diferit de neutroni.</a:t>
            </a:r>
            <a:r>
              <a:rPr b="0" lang="en-US" sz="3200" spc="-1" strike="noStrike">
                <a:solidFill>
                  <a:srgbClr val="d9d9ff"/>
                </a:solidFill>
                <a:latin typeface="Arial Black"/>
              </a:rPr>
              <a:t> </a:t>
            </a:r>
            <a:r>
              <a:rPr b="0" lang="ro-RO" sz="3200" spc="-1" strike="noStrike">
                <a:solidFill>
                  <a:srgbClr val="d9d9ff"/>
                </a:solidFill>
                <a:latin typeface="Arial Black"/>
              </a:rPr>
              <a:t>Ei se numesc </a:t>
            </a:r>
            <a:r>
              <a:rPr b="0" i="1" lang="ro-RO" sz="3200" spc="-1" strike="noStrike">
                <a:solidFill>
                  <a:srgbClr val="d9d9ff"/>
                </a:solidFill>
                <a:latin typeface="Arial Black"/>
              </a:rPr>
              <a:t>izotopi</a:t>
            </a: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13"/>
              <p:cNvSpPr txBox="1"/>
              <p:nvPr/>
            </p:nvSpPr>
            <p:spPr>
              <a:xfrm>
                <a:off x="6300720" y="2492280"/>
                <a:ext cx="152712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15"/>
              <p:cNvSpPr txBox="1"/>
              <p:nvPr/>
            </p:nvSpPr>
            <p:spPr>
              <a:xfrm>
                <a:off x="898560" y="2492280"/>
                <a:ext cx="19447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17"/>
              <p:cNvSpPr txBox="1"/>
              <p:nvPr/>
            </p:nvSpPr>
            <p:spPr>
              <a:xfrm>
                <a:off x="3633840" y="2492280"/>
                <a:ext cx="17301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  <p:transition spd="slow" advTm="30000">
    <p:blinds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258920" y="1988640"/>
            <a:ext cx="743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itatea electronilor care graviteaza in jurul nucleului formeaza invelisul de electroni al atomul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7" descr="x9"/>
          <p:cNvPicPr/>
          <p:nvPr/>
        </p:nvPicPr>
        <p:blipFill>
          <a:blip r:embed="rId1"/>
          <a:stretch/>
        </p:blipFill>
        <p:spPr>
          <a:xfrm>
            <a:off x="250920" y="260280"/>
            <a:ext cx="1838160" cy="1629000"/>
          </a:xfrm>
          <a:prstGeom prst="rect">
            <a:avLst/>
          </a:prstGeom>
          <a:ln w="0">
            <a:noFill/>
          </a:ln>
        </p:spPr>
      </p:pic>
      <p:sp>
        <p:nvSpPr>
          <p:cNvPr id="519" name="WordArt 10"/>
          <p:cNvSpPr txBox="1"/>
          <p:nvPr/>
        </p:nvSpPr>
        <p:spPr>
          <a:xfrm>
            <a:off x="2700360" y="549360"/>
            <a:ext cx="52959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Invelisul electronic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20" name="Picture 13" descr="planete"/>
          <p:cNvPicPr/>
          <p:nvPr/>
        </p:nvPicPr>
        <p:blipFill>
          <a:blip r:embed="rId2"/>
          <a:stretch/>
        </p:blipFill>
        <p:spPr>
          <a:xfrm>
            <a:off x="4140360" y="3645000"/>
            <a:ext cx="4132080" cy="2592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blinds dir="horz"/>
    <p:sndAc>
      <p:stSnd>
        <p:snd r:embed="rId3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3927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i sunt repartizati pe stratu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7 stratur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....7; K...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r max de electroni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pe un str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2x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nde 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nr. stratul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 K(1)   2x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2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 M(2)   2x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8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 L(3)   2x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18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Object 16"/>
          <p:cNvGraphicFramePr/>
          <p:nvPr/>
        </p:nvGraphicFramePr>
        <p:xfrm>
          <a:off x="5216400" y="2276640"/>
          <a:ext cx="392760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6400" y="2276640"/>
                    <a:ext cx="392760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WordArt 20"/>
          <p:cNvSpPr txBox="1"/>
          <p:nvPr/>
        </p:nvSpPr>
        <p:spPr>
          <a:xfrm>
            <a:off x="758880" y="-387360"/>
            <a:ext cx="8385120" cy="14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tructura invelisului de electroni 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30000">
    <p:blinds dir="horz"/>
    <p:sndAc>
      <p:stSnd>
        <p:snd r:embed="rId3" name="chimes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8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Diagram 7"/>
          <p:cNvGrpSpPr/>
          <p:nvPr/>
        </p:nvGrpSpPr>
        <p:grpSpPr>
          <a:xfrm>
            <a:off x="2026080" y="848160"/>
            <a:ext cx="6242400" cy="6242400"/>
            <a:chOff x="2026080" y="848160"/>
            <a:chExt cx="6242400" cy="6242400"/>
          </a:xfrm>
        </p:grpSpPr>
        <p:sp>
          <p:nvSpPr>
            <p:cNvPr id="526" name="_s5124"/>
            <p:cNvSpPr/>
            <p:nvPr/>
          </p:nvSpPr>
          <p:spPr>
            <a:xfrm>
              <a:off x="2913120" y="173520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5125"/>
            <p:cNvSpPr/>
            <p:nvPr/>
          </p:nvSpPr>
          <p:spPr>
            <a:xfrm rot="2160000">
              <a:off x="2912760" y="173484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_s5126"/>
            <p:cNvSpPr/>
            <p:nvPr/>
          </p:nvSpPr>
          <p:spPr>
            <a:xfrm rot="4320000">
              <a:off x="2912400" y="173520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5127"/>
            <p:cNvSpPr/>
            <p:nvPr/>
          </p:nvSpPr>
          <p:spPr>
            <a:xfrm rot="6480000">
              <a:off x="2912400" y="173520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5128"/>
            <p:cNvSpPr/>
            <p:nvPr/>
          </p:nvSpPr>
          <p:spPr>
            <a:xfrm rot="8640000">
              <a:off x="2912760" y="173484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_s5129"/>
            <p:cNvSpPr/>
            <p:nvPr/>
          </p:nvSpPr>
          <p:spPr>
            <a:xfrm rot="10800000">
              <a:off x="2912760" y="173484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_s5130"/>
            <p:cNvSpPr/>
            <p:nvPr/>
          </p:nvSpPr>
          <p:spPr>
            <a:xfrm rot="12960000">
              <a:off x="2912760" y="173484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5131"/>
            <p:cNvSpPr/>
            <p:nvPr/>
          </p:nvSpPr>
          <p:spPr>
            <a:xfrm rot="15120000">
              <a:off x="2913120" y="173448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5132"/>
            <p:cNvSpPr/>
            <p:nvPr/>
          </p:nvSpPr>
          <p:spPr>
            <a:xfrm rot="17280000">
              <a:off x="2913120" y="173448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_s5133"/>
            <p:cNvSpPr/>
            <p:nvPr/>
          </p:nvSpPr>
          <p:spPr>
            <a:xfrm rot="19440000">
              <a:off x="2912760" y="1734840"/>
              <a:ext cx="4468680" cy="4468680"/>
            </a:xfrm>
            <a:prstGeom prst="blockArc">
              <a:avLst>
                <a:gd name="adj1" fmla="val 15660000"/>
                <a:gd name="adj2" fmla="val 5940000"/>
                <a:gd name="adj3" fmla="val 5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5134"/>
            <p:cNvSpPr/>
            <p:nvPr/>
          </p:nvSpPr>
          <p:spPr>
            <a:xfrm>
              <a:off x="5511600" y="165888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800" spc="-1" strike="noStrike">
                  <a:solidFill>
                    <a:srgbClr val="ccccff"/>
                  </a:solidFill>
                  <a:latin typeface="Times New Roman"/>
                </a:rPr>
                <a:t>Electronul</a:t>
              </a:r>
              <a:r>
                <a:rPr b="0" lang="ro-RO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5135"/>
            <p:cNvSpPr/>
            <p:nvPr/>
          </p:nvSpPr>
          <p:spPr>
            <a:xfrm>
              <a:off x="6978600" y="3675240"/>
              <a:ext cx="581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Masa rea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9,1091x10</a:t>
              </a:r>
              <a:r>
                <a:rPr b="0" lang="ro-RO" sz="1800" spc="-1" strike="noStrike" baseline="30000">
                  <a:solidFill>
                    <a:srgbClr val="ffffff"/>
                  </a:solidFill>
                  <a:latin typeface="Times New Roman"/>
                </a:rPr>
                <a:t>-28</a:t>
              </a: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5136"/>
            <p:cNvSpPr/>
            <p:nvPr/>
          </p:nvSpPr>
          <p:spPr>
            <a:xfrm>
              <a:off x="6572160" y="242892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Masa relativ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/1837(0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_s5137"/>
            <p:cNvSpPr/>
            <p:nvPr/>
          </p:nvSpPr>
          <p:spPr>
            <a:xfrm>
              <a:off x="6573960" y="49230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r.electroni=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_s5138"/>
            <p:cNvSpPr/>
            <p:nvPr/>
          </p:nvSpPr>
          <p:spPr>
            <a:xfrm>
              <a:off x="5513400" y="569448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imensiu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du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5139"/>
            <p:cNvSpPr/>
            <p:nvPr/>
          </p:nvSpPr>
          <p:spPr>
            <a:xfrm>
              <a:off x="4201920" y="569448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orm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fer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_s5140"/>
            <p:cNvSpPr/>
            <p:nvPr/>
          </p:nvSpPr>
          <p:spPr>
            <a:xfrm>
              <a:off x="3141720" y="492444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Sarcin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electr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5141"/>
            <p:cNvSpPr/>
            <p:nvPr/>
          </p:nvSpPr>
          <p:spPr>
            <a:xfrm>
              <a:off x="2735280" y="367812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e rotes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 jurul nucleulu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_s5142"/>
            <p:cNvSpPr/>
            <p:nvPr/>
          </p:nvSpPr>
          <p:spPr>
            <a:xfrm>
              <a:off x="3139920" y="243036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o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a s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taseze altui at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5143"/>
            <p:cNvSpPr/>
            <p:nvPr/>
          </p:nvSpPr>
          <p:spPr>
            <a:xfrm>
              <a:off x="4200480" y="165888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oat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aras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tomu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WordArt 76"/>
          <p:cNvSpPr txBox="1"/>
          <p:nvPr/>
        </p:nvSpPr>
        <p:spPr>
          <a:xfrm>
            <a:off x="755640" y="260280"/>
            <a:ext cx="72676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ticularitatile   electronil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00"/>
                </a:solidFill>
                <a:latin typeface="Arial Black"/>
              </a:rPr>
              <a:t>RELAŢIA DINTRE STRUCTURA ATOMICĂ A ELEMENTELOR</a:t>
            </a:r>
            <a:br>
              <a:rPr sz="2400"/>
            </a:br>
            <a:r>
              <a:rPr b="1" lang="ro-RO" sz="2400" spc="-1" strike="noStrike">
                <a:solidFill>
                  <a:srgbClr val="ff3300"/>
                </a:solidFill>
                <a:latin typeface="Arial Black"/>
              </a:rPr>
              <a:t> ŞI POZIŢIA LOR ÎN SISTEMUL PERIODIC</a:t>
            </a:r>
            <a:br>
              <a:rPr sz="2400"/>
            </a:br>
            <a:endParaRPr b="1" lang="en-US" sz="2400" spc="-1" strike="noStrike">
              <a:solidFill>
                <a:srgbClr val="d9d9ff"/>
              </a:solidFill>
              <a:latin typeface="Arial Black"/>
            </a:endParaRPr>
          </a:p>
        </p:txBody>
      </p:sp>
      <p:pic>
        <p:nvPicPr>
          <p:cNvPr id="548" name="Picture 3" descr="atomstru"/>
          <p:cNvPicPr/>
          <p:nvPr/>
        </p:nvPicPr>
        <p:blipFill>
          <a:blip r:embed="rId1"/>
          <a:stretch/>
        </p:blipFill>
        <p:spPr>
          <a:xfrm>
            <a:off x="3635280" y="4653000"/>
            <a:ext cx="1666800" cy="1685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"/>
          <p:cNvSpPr/>
          <p:nvPr/>
        </p:nvSpPr>
        <p:spPr>
          <a:xfrm>
            <a:off x="2556000" y="2349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39640" y="1773360"/>
            <a:ext cx="7561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tructura învelişului electronic al atomului → poziţia elementului în sistemul period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ccff"/>
                </a:solidFill>
                <a:latin typeface="Times New Roman"/>
              </a:rPr>
              <a:t>Numărul grupei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→ numărul electronilor de valenţ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electronii de 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ultimul  strat în curs de complet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ccff"/>
                </a:solidFill>
                <a:latin typeface="Times New Roman"/>
              </a:rPr>
              <a:t>Numărul perioadei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→ numărul de straturi electron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2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d9d9ff"/>
                </a:solidFill>
                <a:latin typeface="Arial Black"/>
              </a:rPr>
              <a:t>Configuratia electronica a elementelor din perioadele 1,2,3</a:t>
            </a:r>
            <a:endParaRPr b="1" lang="en-US" sz="4000" spc="-1" strike="noStrike">
              <a:solidFill>
                <a:srgbClr val="d9d9ff"/>
              </a:solidFill>
              <a:latin typeface="Arial Black"/>
            </a:endParaRPr>
          </a:p>
        </p:txBody>
      </p:sp>
      <p:graphicFrame>
        <p:nvGraphicFramePr>
          <p:cNvPr id="552" name="Object 3"/>
          <p:cNvGraphicFramePr/>
          <p:nvPr/>
        </p:nvGraphicFramePr>
        <p:xfrm>
          <a:off x="900000" y="1844640"/>
          <a:ext cx="777564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44640"/>
                    <a:ext cx="77756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30000">
    <p:blinds dir="horz"/>
    <p:sndAc>
      <p:stSnd>
        <p:snd r:embed="rId3" name="chimes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d9ff"/>
                </a:solidFill>
                <a:latin typeface="Arial Black"/>
              </a:rPr>
              <a:t>Element chimic.Simbol chimic</a:t>
            </a:r>
            <a:endParaRPr b="1" lang="en-US" sz="36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36160" y="1628280"/>
            <a:ext cx="8007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 de atomi cu aceeasi sarcina nucleara,deci acelasi nr. atomic Z se numeste element chim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Organization Chart 6"/>
          <p:cNvGrpSpPr/>
          <p:nvPr/>
        </p:nvGrpSpPr>
        <p:grpSpPr>
          <a:xfrm>
            <a:off x="809640" y="3324240"/>
            <a:ext cx="7992720" cy="2719080"/>
            <a:chOff x="809640" y="3324240"/>
            <a:chExt cx="7992720" cy="2719080"/>
          </a:xfrm>
        </p:grpSpPr>
        <p:cxnSp>
          <p:nvCxnSpPr>
            <p:cNvPr id="557" name="_s7172"/>
            <p:cNvCxnSpPr>
              <a:stCxn id="558" idx="4"/>
              <a:endCxn id="559" idx="3"/>
            </p:cNvCxnSpPr>
            <p:nvPr/>
          </p:nvCxnSpPr>
          <p:spPr>
            <a:xfrm flipV="1">
              <a:off x="4597200" y="3702600"/>
              <a:ext cx="237600" cy="518400"/>
            </a:xfrm>
            <a:prstGeom prst="bentConnector2">
              <a:avLst/>
            </a:prstGeom>
            <a:ln w="28440">
              <a:solidFill>
                <a:srgbClr val="573f8b"/>
              </a:solidFill>
              <a:miter/>
            </a:ln>
          </p:spPr>
        </p:cxnSp>
        <p:cxnSp>
          <p:nvCxnSpPr>
            <p:cNvPr id="560" name="_s7173"/>
            <p:cNvCxnSpPr>
              <a:stCxn id="561" idx="0"/>
              <a:endCxn id="562" idx="3"/>
            </p:cNvCxnSpPr>
            <p:nvPr/>
          </p:nvCxnSpPr>
          <p:spPr>
            <a:xfrm flipV="1" rot="16200000">
              <a:off x="6782040" y="5328000"/>
              <a:ext cx="190080" cy="63360"/>
            </a:xfrm>
            <a:prstGeom prst="bentConnector3">
              <a:avLst>
                <a:gd name="adj1" fmla="val 49525"/>
              </a:avLst>
            </a:prstGeom>
            <a:ln w="28440">
              <a:solidFill>
                <a:srgbClr val="573f8b"/>
              </a:solidFill>
              <a:miter/>
            </a:ln>
          </p:spPr>
        </p:cxnSp>
        <p:cxnSp>
          <p:nvCxnSpPr>
            <p:cNvPr id="563" name="_s7174"/>
            <p:cNvCxnSpPr>
              <a:stCxn id="564" idx="0"/>
              <a:endCxn id="565" idx="3"/>
            </p:cNvCxnSpPr>
            <p:nvPr/>
          </p:nvCxnSpPr>
          <p:spPr>
            <a:xfrm flipV="1" rot="16200000">
              <a:off x="2736720" y="5327280"/>
              <a:ext cx="190080" cy="64800"/>
            </a:xfrm>
            <a:prstGeom prst="bentConnector3">
              <a:avLst>
                <a:gd name="adj1" fmla="val 49525"/>
              </a:avLst>
            </a:prstGeom>
            <a:ln w="28440">
              <a:solidFill>
                <a:srgbClr val="573f8b"/>
              </a:solidFill>
              <a:miter/>
            </a:ln>
          </p:spPr>
        </p:cxnSp>
        <p:cxnSp>
          <p:nvCxnSpPr>
            <p:cNvPr id="566" name="_s7175"/>
            <p:cNvCxnSpPr>
              <a:stCxn id="562" idx="0"/>
              <a:endCxn id="559" idx="3"/>
            </p:cNvCxnSpPr>
            <p:nvPr/>
          </p:nvCxnSpPr>
          <p:spPr>
            <a:xfrm flipV="1" rot="16200000">
              <a:off x="5385600" y="3150000"/>
              <a:ext cx="970920" cy="2075040"/>
            </a:xfrm>
            <a:prstGeom prst="bentConnector3">
              <a:avLst>
                <a:gd name="adj1" fmla="val 11758"/>
              </a:avLst>
            </a:prstGeom>
            <a:ln w="28440">
              <a:solidFill>
                <a:srgbClr val="573f8b"/>
              </a:solidFill>
              <a:miter/>
            </a:ln>
          </p:spPr>
        </p:cxnSp>
        <p:cxnSp>
          <p:nvCxnSpPr>
            <p:cNvPr id="567" name="_s7176"/>
            <p:cNvCxnSpPr>
              <a:stCxn id="565" idx="0"/>
              <a:endCxn id="559" idx="3"/>
            </p:cNvCxnSpPr>
            <p:nvPr/>
          </p:nvCxnSpPr>
          <p:spPr>
            <a:xfrm flipH="1" flipV="1" rot="5400000">
              <a:off x="3363480" y="3202560"/>
              <a:ext cx="970920" cy="1970640"/>
            </a:xfrm>
            <a:prstGeom prst="bentConnector3">
              <a:avLst>
                <a:gd name="adj1" fmla="val 11758"/>
              </a:avLst>
            </a:prstGeom>
            <a:ln w="28440">
              <a:solidFill>
                <a:srgbClr val="573f8b"/>
              </a:solidFill>
              <a:miter/>
            </a:ln>
          </p:spPr>
        </p:cxnSp>
        <p:sp>
          <p:nvSpPr>
            <p:cNvPr id="559" name="_s7177"/>
            <p:cNvSpPr/>
            <p:nvPr/>
          </p:nvSpPr>
          <p:spPr>
            <a:xfrm>
              <a:off x="4132800" y="3324240"/>
              <a:ext cx="1442880" cy="378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Simbol chimic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_s7178"/>
            <p:cNvSpPr/>
            <p:nvPr/>
          </p:nvSpPr>
          <p:spPr>
            <a:xfrm>
              <a:off x="905760" y="4673160"/>
              <a:ext cx="3852000" cy="591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33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Sub aspect calitativ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reprezint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_s7179"/>
            <p:cNvSpPr/>
            <p:nvPr/>
          </p:nvSpPr>
          <p:spPr>
            <a:xfrm>
              <a:off x="4950720" y="4673160"/>
              <a:ext cx="3851640" cy="591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33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Sub aspect cantitativ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reprezint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_s7180"/>
            <p:cNvSpPr/>
            <p:nvPr/>
          </p:nvSpPr>
          <p:spPr>
            <a:xfrm>
              <a:off x="1738080" y="5454720"/>
              <a:ext cx="2187000" cy="58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f3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99f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Un anumit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elemen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_s7181"/>
            <p:cNvSpPr/>
            <p:nvPr/>
          </p:nvSpPr>
          <p:spPr>
            <a:xfrm>
              <a:off x="5783040" y="5454720"/>
              <a:ext cx="2187000" cy="58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f3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99f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Un atom al elementului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_s7182"/>
            <p:cNvSpPr/>
            <p:nvPr/>
          </p:nvSpPr>
          <p:spPr>
            <a:xfrm>
              <a:off x="809640" y="3892320"/>
              <a:ext cx="3851640" cy="591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Notare conventionala a elementului chimic printr-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litera sau grup de liter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30000">
    <p:blinds dir="horz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1155600" y="1904760"/>
            <a:ext cx="7988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cc00"/>
                </a:solidFill>
                <a:latin typeface="Arial Black"/>
              </a:rPr>
              <a:t>CUM PUTEM EXPLORA LUMEA INVIZIBILA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8" name=""/>
          <p:cNvGraphicFramePr/>
          <p:nvPr/>
        </p:nvGraphicFramePr>
        <p:xfrm>
          <a:off x="1523880" y="1397160"/>
          <a:ext cx="6096240" cy="51814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singura lite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up de lit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drogen           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liu               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bon              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itiu                 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gen              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eon               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r                 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rcur            H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d                       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odiu(natriu)   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lf                    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rom               B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siu              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agneziu        M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ot                   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luminiu          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sfor                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alciu             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5888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ff"/>
                </a:solidFill>
                <a:latin typeface="Arial Black"/>
              </a:rPr>
              <a:t>Elementele si simbolurile acestora reprezentate prin</a:t>
            </a:r>
            <a:endParaRPr b="1" lang="en-US" sz="2000" spc="-1" strike="noStrike">
              <a:solidFill>
                <a:srgbClr val="d9d9ff"/>
              </a:solidFill>
              <a:latin typeface="Arial Black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Atomul 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“</a:t>
            </a: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distrugator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”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lul atomic a inceput cu bombele atomice.Planeta s-a cutremurat.Omenirea adanc impresionata a intrebat cu neliniste si speranta: cine este atomul un prieten sau un dusma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august 1945, prima bomba atomica transportata la bordul bombardierului americanB-29 “Enola Gay” a transformat Hiroshima intr-un morman de ruine fara vi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pa trei zile ciuperca otravitoare a exploziei atomice a crescut deasupra unui alt oras japonez Nagasa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Atomul 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“</a:t>
            </a: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distrugator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”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1 martie 1954 operatiunea Castle –efectuarea unei explozii experimentale a unei bombe mixte, atomice si nucleare pe atolul Bikini.Deasupra oceanului s-a inaltat 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ciuperca” de 40km inaltime, avand la partea superioara latimea de 160 km.Sfera de foc care s-a aprins la cateva secunde dupa explozie avea in centru o temperatura de ordinul unui miliard de grade si a fost vizibila de la 130km de epicentru.La o ora dupa explozie radioactivitatea norului a atins 1000 de miliarde de curie pentru obtinerea careia ar fi fost nevoie de un milion de tone de radiu.Insula de coral a fost topita de explozie si transformata instantaneu in praf de unda de s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Atomul 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“</a:t>
            </a: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inginer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”</a:t>
            </a: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efectoscopia g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Masurarea lichidului in rezervoare inch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eterminarea uzurii instrumentelor de tai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onstatarea scurgerilor de gaz din conductele subte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Verificarea captuselii refractare cu care este captusia gura incalzita a furnalul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utarea unor surse de aprovizionare cu ap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ontrolul innămolirii porturi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Neutralizarea sarcinilor electricitatii statice care prezintă pericole de incendi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Atomul 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“</a:t>
            </a: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chimist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”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Radiatiile radioactive reprezinta un mijloc cu adevarat miraculos in mainile chimistului.Sub actiunea lor se produc metamorfoze uimitoare:zaharul se transforma in acid, uleiul de ricin se solidifica, pielea devine impermeabilă,benzenul se combina cu clorul dand un insecticid foarte eficace,parafina se schimbă intr-o substantă asemanatoare cauciuculu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Radiochi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obtinere polime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transformarea energiei atomice direct in energie elect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metode de analiză prin radioactivare a materialelor ultrapure(combustibili nucleari, semiconductor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Atomul 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“</a:t>
            </a: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medic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”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La 6 iunie 1905,Pierre Curi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unea i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n discursul cu ocazia de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narii premiului Nobel ca sub actiunea radiatiilor radiului cresterea tesuturilor atacate de canc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etinest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sau inc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total, in timp ce tesuturile sanatoase vecin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nt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enaj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Radiul a fost inlocuit cu Co radioactiv(30 g Co radioactiv emite aceeasi cantitate de radiatii ca o bucata de Ra de cateva kilogram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Radioterap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451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Intratisulară-este utilizata pentru tratarea tumorilor  canceroase exterio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In tumoare se introduce o sursa de radiatii, de exemplu sub forma unor ace dintr-o sarma special de cobalt-nichel, bombardata in prealabil cu neutroni.Neutronii transforma cobaltul obisnuit in cobalt radioactiv-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451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Iradierea externa-se utilizeaza o instalatie speciala de iradiere la distanta, asa-numitul tun de cobalt.Acestuia nu-i pot reyista nici cei mai ingrozitori dusmani ai sanatatii:cancerul pulmonar, cancerul esofagului, sarcomul oaselor si alte boli ale organelor inter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Atomul 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“</a:t>
            </a: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agronom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”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Pentru a distruge insectele daunatoare si larvele lor care produc pagube semnificative agriculturii, omul foloseste produsele chimice, care sunt insa daunatoare organismului u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In ajutor ne vin radiatiile gama, sub actiunea carora pier consumatorii nepoftiti si microorganismele  care produc stricaciuni, putrez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De exemplu, dupa iradierea ga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cartoful se poate pastra cu succes aproape doi 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1725480" y="38088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9ff33"/>
                </a:solidFill>
                <a:latin typeface="Times New Roman"/>
              </a:rPr>
              <a:t>OAMENI SI FAPTE CARE NE-AU APROPI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9ff33"/>
                </a:solidFill>
                <a:latin typeface="Times New Roman"/>
              </a:rPr>
              <a:t>DE ATO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1"/>
          <a:stretch/>
        </p:blipFill>
        <p:spPr>
          <a:xfrm>
            <a:off x="2925720" y="3863880"/>
            <a:ext cx="835200" cy="860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2"/>
          <a:stretch/>
        </p:blipFill>
        <p:spPr>
          <a:xfrm>
            <a:off x="1897200" y="3360600"/>
            <a:ext cx="922320" cy="727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"/>
          <p:cNvPicPr/>
          <p:nvPr/>
        </p:nvPicPr>
        <p:blipFill>
          <a:blip r:embed="rId3"/>
          <a:stretch/>
        </p:blipFill>
        <p:spPr>
          <a:xfrm>
            <a:off x="1954080" y="4572000"/>
            <a:ext cx="789120" cy="855720"/>
          </a:xfrm>
          <a:prstGeom prst="rect">
            <a:avLst/>
          </a:prstGeom>
          <a:ln w="0">
            <a:noFill/>
          </a:ln>
        </p:spPr>
      </p:pic>
      <p:sp>
        <p:nvSpPr>
          <p:cNvPr id="457" name="Line 7"/>
          <p:cNvSpPr/>
          <p:nvPr/>
        </p:nvSpPr>
        <p:spPr>
          <a:xfrm flipH="1">
            <a:off x="2849040" y="4876920"/>
            <a:ext cx="427320" cy="380880"/>
          </a:xfrm>
          <a:prstGeom prst="line">
            <a:avLst/>
          </a:prstGeom>
          <a:ln cap="sq" w="7632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 flipH="1">
            <a:off x="1298520" y="3483000"/>
            <a:ext cx="426960" cy="380880"/>
          </a:xfrm>
          <a:prstGeom prst="line">
            <a:avLst/>
          </a:prstGeom>
          <a:ln cap="sq" w="7632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9"/>
          <p:cNvSpPr/>
          <p:nvPr/>
        </p:nvSpPr>
        <p:spPr>
          <a:xfrm flipH="1" flipV="1">
            <a:off x="1447920" y="4762080"/>
            <a:ext cx="426960" cy="343080"/>
          </a:xfrm>
          <a:prstGeom prst="line">
            <a:avLst/>
          </a:prstGeom>
          <a:ln cap="sq" w="7632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10"/>
          <p:cNvSpPr/>
          <p:nvPr/>
        </p:nvSpPr>
        <p:spPr>
          <a:xfrm flipH="1" flipV="1">
            <a:off x="2849040" y="3405240"/>
            <a:ext cx="427320" cy="342720"/>
          </a:xfrm>
          <a:prstGeom prst="line">
            <a:avLst/>
          </a:prstGeom>
          <a:ln cap="sq" w="7632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11" descr="atomi"/>
          <p:cNvPicPr/>
          <p:nvPr/>
        </p:nvPicPr>
        <p:blipFill>
          <a:blip r:embed="rId4"/>
          <a:stretch/>
        </p:blipFill>
        <p:spPr>
          <a:xfrm>
            <a:off x="7707240" y="5562720"/>
            <a:ext cx="1284480" cy="128412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3"/>
          <p:cNvSpPr/>
          <p:nvPr/>
        </p:nvSpPr>
        <p:spPr>
          <a:xfrm>
            <a:off x="822240" y="3635280"/>
            <a:ext cx="816948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</a:t>
            </a:r>
            <a:r>
              <a:rPr b="0" lang="en-US" sz="1400" spc="-1" strike="noStrike" u="sng">
                <a:solidFill>
                  <a:srgbClr val="d9d9ff"/>
                </a:solidFill>
                <a:uFillTx/>
                <a:latin typeface="Times New Roman"/>
                <a:ea typeface="Times New Roman"/>
              </a:rPr>
              <a:t>1750-1794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– In secolul XVIII-lea, Cavendish, Scheele, Lavoisier si     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                           Lomonosov transforma alchim</a:t>
            </a:r>
            <a:r>
              <a:rPr b="0" lang="ro-RO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i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a intr-o stiin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     </a:t>
            </a:r>
            <a:r>
              <a:rPr b="0" lang="en-US" sz="1400" spc="-1" strike="noStrike" u="sng">
                <a:solidFill>
                  <a:srgbClr val="d9d9ff"/>
                </a:solidFill>
                <a:uFillTx/>
                <a:latin typeface="Times New Roman"/>
                <a:ea typeface="Times New Roman"/>
              </a:rPr>
              <a:t>1808-1810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– J. Dalton explica unele rezultate experimentale pe baza 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                          notiunii de ato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400" spc="-1" strike="noStrike" u="sng">
                <a:solidFill>
                  <a:srgbClr val="d9d9ff"/>
                </a:solidFill>
                <a:uFillTx/>
                <a:latin typeface="Times New Roman"/>
                <a:ea typeface="Times New Roman"/>
              </a:rPr>
              <a:t>1896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– H. Bequerel descopera radioactivitatea, care  consta in 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                                 emiterea de particule de catre anumiti atom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400" spc="-1" strike="noStrike" u="sng">
                <a:solidFill>
                  <a:srgbClr val="d9d9ff"/>
                </a:solidFill>
                <a:uFillTx/>
                <a:latin typeface="Times New Roman"/>
                <a:ea typeface="Times New Roman"/>
              </a:rPr>
              <a:t>1897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– J. J. Thomson identifica electronul  - particule incarcate cu sarcina  negativa care graviteaza in jurul nucleului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9d9ff"/>
                </a:solidFill>
                <a:uFillTx/>
                <a:latin typeface="Times New Roman"/>
                <a:ea typeface="Times New Roman"/>
              </a:rPr>
              <a:t>1897</a:t>
            </a: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 – Fizicianul Joseph Thomsoon descrie atomul ca o sfera alcatuita din particul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d9ff"/>
                </a:solidFill>
                <a:latin typeface="Times New Roman"/>
                <a:ea typeface="Times New Roman"/>
              </a:rPr>
              <a:t>incarcate electr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14" descr="02"/>
          <p:cNvPicPr/>
          <p:nvPr/>
        </p:nvPicPr>
        <p:blipFill>
          <a:blip r:embed="rId5"/>
          <a:stretch/>
        </p:blipFill>
        <p:spPr>
          <a:xfrm>
            <a:off x="428760" y="3714840"/>
            <a:ext cx="1128600" cy="7635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15"/>
          <p:cNvSpPr/>
          <p:nvPr/>
        </p:nvSpPr>
        <p:spPr>
          <a:xfrm>
            <a:off x="-1167840" y="6860880"/>
            <a:ext cx="97635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u materia ca fiind formata din particule invizibile pe care le-au numit “atomi”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Intre1808-18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J. Dalton explica unele rezultate experimentale pe baza notiunii de ato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89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. Bequerel descopera radioactivitatea, care  consta i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emitere de particule de catre anumiti atomi.</a:t>
            </a:r>
            <a:r>
              <a:rPr b="0" lang="ro-RO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nul  - particule incarcate cu sarcina  negativa care graviteaza in jurul nucleului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In 189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Fizicianul Joseph Thomsoon descrie atomul –ca o sfera alcatuita din particole incarcate electric si identifica electronul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90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lui Rutherford i se ofera premiul Nobel pentru modelul planetar al atomului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6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75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775"/>
                            </p:stCondLst>
                            <p:childTnLst>
                              <p:par>
                                <p:cTn id="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275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775"/>
                            </p:stCondLst>
                            <p:childTnLst>
                              <p:par>
                                <p:cTn id="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275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775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275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775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275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775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275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762120" y="1371600"/>
            <a:ext cx="8381880" cy="380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838080" y="324000"/>
            <a:ext cx="792504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08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lui Rutherford i se ofera premiul Nobel pentru modelul planetar al atomulu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11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Rutherford descopera o alta particula care face parte din atom – “protonul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13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Niels Bohr imagineaza atomul asemanator sistemului so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30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Somerfild si Heisenberg propun un model atomic in care e</a:t>
            </a:r>
            <a:r>
              <a:rPr b="0" lang="ro-RO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ronii su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ati pe anumite nivele  energet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3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I. Chodwich identifica o alta particula din nucleul atomic “neutronul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86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E. Rusko a inventat primul microscop elect</a:t>
            </a:r>
            <a:r>
              <a:rPr b="0" lang="ro-RO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 cu ajutorul carora s-au  putut vedea atomii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“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mia, eterna rivala si imitatoare a naturii”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der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4" descr="w_planete"/>
          <p:cNvPicPr/>
          <p:nvPr/>
        </p:nvPicPr>
        <p:blipFill>
          <a:blip r:embed="rId1"/>
          <a:stretch/>
        </p:blipFill>
        <p:spPr>
          <a:xfrm>
            <a:off x="6934320" y="6858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6"/>
          <p:cNvSpPr/>
          <p:nvPr/>
        </p:nvSpPr>
        <p:spPr>
          <a:xfrm>
            <a:off x="6172200" y="5791320"/>
            <a:ext cx="2666880" cy="990360"/>
          </a:xfrm>
          <a:prstGeom prst="rightArrow">
            <a:avLst>
              <a:gd name="adj1" fmla="val 50000"/>
              <a:gd name="adj2" fmla="val 109396"/>
            </a:avLst>
          </a:prstGeom>
          <a:blipFill rotWithShape="0">
            <a:blip r:embed="rId2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7" descr="CAAHSXGR"/>
          <p:cNvPicPr/>
          <p:nvPr/>
        </p:nvPicPr>
        <p:blipFill>
          <a:blip r:embed="rId3"/>
          <a:stretch/>
        </p:blipFill>
        <p:spPr>
          <a:xfrm>
            <a:off x="1362240" y="360036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8" descr="hm00363_"/>
          <p:cNvPicPr/>
          <p:nvPr/>
        </p:nvPicPr>
        <p:blipFill>
          <a:blip r:embed="rId4"/>
          <a:stretch/>
        </p:blipFill>
        <p:spPr>
          <a:xfrm>
            <a:off x="6516720" y="2781360"/>
            <a:ext cx="2349360" cy="23572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blinds dir="horz"/>
    <p:sndAc>
      <p:stSnd>
        <p:snd r:embed="rId5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9d9ff"/>
                </a:solidFill>
                <a:latin typeface="Arial Black"/>
              </a:rPr>
              <a:t>Definitia atomului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ea mai mica particula dintr-o substantă simpla si pură care poate exista si poate fi studiată independent se numeste </a:t>
            </a:r>
            <a:r>
              <a:rPr b="0" i="1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8" descr="x8"/>
          <p:cNvPicPr/>
          <p:nvPr/>
        </p:nvPicPr>
        <p:blipFill>
          <a:blip r:embed="rId1"/>
          <a:stretch/>
        </p:blipFill>
        <p:spPr>
          <a:xfrm>
            <a:off x="6084720" y="2349360"/>
            <a:ext cx="2519640" cy="2448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blinds dir="horz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 u="sng">
                <a:solidFill>
                  <a:srgbClr val="d9d9ff"/>
                </a:solidFill>
                <a:uFillTx/>
                <a:latin typeface="Arial Black"/>
              </a:rPr>
              <a:t>Caracteristicile atomului</a:t>
            </a:r>
            <a:endParaRPr b="1" lang="en-US" sz="36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11400" y="1930320"/>
            <a:ext cx="382104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forma sfer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ste invizibil cu ochiul liber sau cu aparate optice obisnu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mensiuni foarte mic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entru masurarea dimensiunilor foarte mici ale atomilor se foloseste unitatea de masura numita ANGSTROM. 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simbol: </a:t>
            </a:r>
            <a:r>
              <a:rPr b="1" lang="ro-RO" sz="1400" spc="-1" strike="noStrike">
                <a:solidFill>
                  <a:srgbClr val="ff9933"/>
                </a:solidFill>
                <a:latin typeface="Arial"/>
              </a:rPr>
              <a:t>Å 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</a:t>
            </a:r>
            <a:r>
              <a:rPr b="1" lang="ro-RO" sz="1400" spc="-1" strike="noStrike">
                <a:solidFill>
                  <a:srgbClr val="ff9933"/>
                </a:solidFill>
                <a:latin typeface="Arial"/>
              </a:rPr>
              <a:t>Å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 = 10-1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5,8484 x 10</a:t>
            </a:r>
            <a:r>
              <a:rPr b="0" lang="ro-RO" sz="1400" spc="-1" strike="noStrike" baseline="30000">
                <a:solidFill>
                  <a:srgbClr val="ffffff"/>
                </a:solidFill>
                <a:latin typeface="Arial"/>
              </a:rPr>
              <a:t>22 </a:t>
            </a: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atomi de au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=1 cub cu latura de 1cm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 neutru din punct de vedere electric(numarul de sarcini pozitive este egal cu numarul de sarcini nega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5" descr="x3"/>
          <p:cNvPicPr/>
          <p:nvPr/>
        </p:nvPicPr>
        <p:blipFill>
          <a:blip r:embed="rId1"/>
          <a:stretch/>
        </p:blipFill>
        <p:spPr>
          <a:xfrm>
            <a:off x="5499000" y="1905120"/>
            <a:ext cx="2764080" cy="20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x2"/>
          <p:cNvPicPr/>
          <p:nvPr/>
        </p:nvPicPr>
        <p:blipFill>
          <a:blip r:embed="rId2"/>
          <a:stretch/>
        </p:blipFill>
        <p:spPr>
          <a:xfrm>
            <a:off x="5508720" y="4076640"/>
            <a:ext cx="2749320" cy="20192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blinds dir="horz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 u="sng">
                <a:solidFill>
                  <a:srgbClr val="d9d9ff"/>
                </a:solidFill>
                <a:uFillTx/>
                <a:latin typeface="Arial Black"/>
              </a:rPr>
              <a:t>Caracteristicile atomului</a:t>
            </a:r>
            <a:endParaRPr b="1" lang="en-US" sz="36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e scindat numai prin procedee fizi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icipa efectiv in procesele chim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are o structura complex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atom315"/>
          <p:cNvPicPr/>
          <p:nvPr/>
        </p:nvPicPr>
        <p:blipFill>
          <a:blip r:embed="rId1"/>
          <a:stretch/>
        </p:blipFill>
        <p:spPr>
          <a:xfrm>
            <a:off x="4643280" y="1989000"/>
            <a:ext cx="4500720" cy="34578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blinds dir="horz"/>
    <p:sndAc>
      <p:stSnd>
        <p:snd r:embed="rId2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Organization Chart 11"/>
          <p:cNvGrpSpPr/>
          <p:nvPr/>
        </p:nvGrpSpPr>
        <p:grpSpPr>
          <a:xfrm>
            <a:off x="160200" y="1486080"/>
            <a:ext cx="7944120" cy="4383360"/>
            <a:chOff x="160200" y="1486080"/>
            <a:chExt cx="7944120" cy="4383360"/>
          </a:xfrm>
        </p:grpSpPr>
        <p:cxnSp>
          <p:nvCxnSpPr>
            <p:cNvPr id="482" name="_s1028"/>
            <p:cNvCxnSpPr>
              <a:stCxn id="483" idx="0"/>
              <a:endCxn id="484" idx="2"/>
            </p:cNvCxnSpPr>
            <p:nvPr/>
          </p:nvCxnSpPr>
          <p:spPr>
            <a:xfrm flipV="1">
              <a:off x="3312720" y="2388960"/>
              <a:ext cx="2520" cy="21528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485" name="_s1029"/>
            <p:cNvCxnSpPr>
              <a:stCxn id="486" idx="1"/>
              <a:endCxn id="487" idx="2"/>
            </p:cNvCxnSpPr>
            <p:nvPr/>
          </p:nvCxnSpPr>
          <p:spPr>
            <a:xfrm flipH="1" rot="10800000">
              <a:off x="2626200" y="5196960"/>
              <a:ext cx="686520" cy="443880"/>
            </a:xfrm>
            <a:prstGeom prst="bentConnector4">
              <a:avLst>
                <a:gd name="adj1" fmla="val -16631"/>
                <a:gd name="adj2" fmla="val 77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488" name="_s1030"/>
            <p:cNvCxnSpPr>
              <a:stCxn id="489" idx="0"/>
              <a:endCxn id="487" idx="2"/>
            </p:cNvCxnSpPr>
            <p:nvPr/>
          </p:nvCxnSpPr>
          <p:spPr>
            <a:xfrm rot="5400000">
              <a:off x="4372920" y="3665160"/>
              <a:ext cx="471960" cy="2592720"/>
            </a:xfrm>
            <a:prstGeom prst="bentConnector5">
              <a:avLst>
                <a:gd name="adj1" fmla="val -24198"/>
                <a:gd name="adj2" fmla="val 50034"/>
                <a:gd name="adj3" fmla="val 145419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490" name="_s1031"/>
            <p:cNvCxnSpPr>
              <a:stCxn id="491" idx="1"/>
              <a:endCxn id="492" idx="2"/>
            </p:cNvCxnSpPr>
            <p:nvPr/>
          </p:nvCxnSpPr>
          <p:spPr>
            <a:xfrm rot="10800000">
              <a:off x="5473080" y="2891880"/>
              <a:ext cx="1259640" cy="1126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493" name="_s1032"/>
            <p:cNvCxnSpPr>
              <a:stCxn id="494" idx="1"/>
              <a:endCxn id="492" idx="2"/>
            </p:cNvCxnSpPr>
            <p:nvPr/>
          </p:nvCxnSpPr>
          <p:spPr>
            <a:xfrm rot="10800000">
              <a:off x="5473080" y="2891880"/>
              <a:ext cx="1114920" cy="33408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495" name="_s1033"/>
            <p:cNvCxnSpPr>
              <a:stCxn id="492" idx="1"/>
              <a:endCxn id="484" idx="2"/>
            </p:cNvCxnSpPr>
            <p:nvPr/>
          </p:nvCxnSpPr>
          <p:spPr>
            <a:xfrm rot="10800000">
              <a:off x="3312360" y="2388600"/>
              <a:ext cx="1475640" cy="26136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496" name="_s1034"/>
            <p:cNvCxnSpPr>
              <a:stCxn id="487" idx="1"/>
              <a:endCxn id="497" idx="2"/>
            </p:cNvCxnSpPr>
            <p:nvPr/>
          </p:nvCxnSpPr>
          <p:spPr>
            <a:xfrm rot="10800000">
              <a:off x="845280" y="1956960"/>
              <a:ext cx="1782000" cy="299808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498" name="_s1035"/>
            <p:cNvCxnSpPr>
              <a:stCxn id="484" idx="1"/>
              <a:endCxn id="497" idx="2"/>
            </p:cNvCxnSpPr>
            <p:nvPr/>
          </p:nvCxnSpPr>
          <p:spPr>
            <a:xfrm rot="10800000">
              <a:off x="845280" y="1956960"/>
              <a:ext cx="1782000" cy="1897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497" name="_s1036"/>
            <p:cNvSpPr/>
            <p:nvPr/>
          </p:nvSpPr>
          <p:spPr>
            <a:xfrm>
              <a:off x="160200" y="148608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to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neutru electri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_s1037"/>
            <p:cNvSpPr/>
            <p:nvPr/>
          </p:nvSpPr>
          <p:spPr>
            <a:xfrm>
              <a:off x="2627280" y="191808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ucleu (+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_s1038"/>
            <p:cNvSpPr/>
            <p:nvPr/>
          </p:nvSpPr>
          <p:spPr>
            <a:xfrm>
              <a:off x="2627280" y="472644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veli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lectronic(-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_s1039"/>
            <p:cNvSpPr/>
            <p:nvPr/>
          </p:nvSpPr>
          <p:spPr>
            <a:xfrm>
              <a:off x="4788000" y="2421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ucleon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_s1040"/>
            <p:cNvSpPr/>
            <p:nvPr/>
          </p:nvSpPr>
          <p:spPr>
            <a:xfrm>
              <a:off x="6588000" y="2997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toni, p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+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_s1041"/>
            <p:cNvSpPr/>
            <p:nvPr/>
          </p:nvSpPr>
          <p:spPr>
            <a:xfrm>
              <a:off x="6732720" y="378972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eutroni , n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_s1042"/>
            <p:cNvSpPr/>
            <p:nvPr/>
          </p:nvSpPr>
          <p:spPr>
            <a:xfrm>
              <a:off x="5219640" y="472644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lectroni ,e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_s1043"/>
            <p:cNvSpPr/>
            <p:nvPr/>
          </p:nvSpPr>
          <p:spPr>
            <a:xfrm>
              <a:off x="2627280" y="541224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a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masa neglijabi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_s1044"/>
            <p:cNvSpPr/>
            <p:nvPr/>
          </p:nvSpPr>
          <p:spPr>
            <a:xfrm>
              <a:off x="2627280" y="260388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cuprinde aproap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toat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o-RO" sz="1800" spc="-1" strike="noStrike">
                  <a:solidFill>
                    <a:srgbClr val="ffffff"/>
                  </a:solidFill>
                  <a:latin typeface="Times New Roman"/>
                </a:rPr>
                <a:t>masa atomulu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WordArt 77"/>
          <p:cNvSpPr txBox="1"/>
          <p:nvPr/>
        </p:nvSpPr>
        <p:spPr>
          <a:xfrm>
            <a:off x="1116000" y="0"/>
            <a:ext cx="483876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ructura atomului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30000">
    <p:blinds dir="horz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nucleul prezinta o stabilitate extrem de m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este incarcat electric pozit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nu se modifica in procesele chimice</a:t>
            </a:r>
            <a:br>
              <a:rPr sz="2000"/>
            </a:b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uprinde aproape toata masa atomului</a:t>
            </a:r>
            <a:br>
              <a:rPr sz="2000"/>
            </a:b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WordArt 4"/>
          <p:cNvSpPr txBox="1"/>
          <p:nvPr/>
        </p:nvSpPr>
        <p:spPr>
          <a:xfrm>
            <a:off x="826920" y="549360"/>
            <a:ext cx="63057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aracteristicile nucleulu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30000">
    <p:checker dir="horz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6:41:23Z</dcterms:created>
  <dc:creator>Personal</dc:creator>
  <dc:description/>
  <dc:language>en-US</dc:language>
  <cp:lastModifiedBy>user</cp:lastModifiedBy>
  <dcterms:modified xsi:type="dcterms:W3CDTF">2010-05-25T22:28:32Z</dcterms:modified>
  <cp:revision>55</cp:revision>
  <dc:subject/>
  <dc:title>Atomul .Structura atomulu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